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DB59-18D2-4595-9924-AF338B9BF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8289-D555-4187-904F-2D9E2B28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E677A2-2B2A-4DBF-B819-4CF18979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45AA3C-73A2-40B6-8710-C2BF4367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F80362-0797-4E71-B971-A6CFC539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278E88-BE9E-4911-BE15-C0A4AD0F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37DD84-AE91-475E-B60A-8D94F655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6C60EB-7A2D-4C85-BA6E-BACE236C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543931-2BCF-49BA-8EF1-F79FA859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CFC5EF-C42D-4FA7-8BE1-EE6DED2D1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EE5C88-BBBB-4F67-88EF-E51F758F2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25A8C6-418F-4C27-94E3-4250724B9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1A08-FFF2-44B6-9649-B79648B85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843A35-5453-45C5-BB7B-6806E4EE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3B5D62-938F-4992-9EF5-3D420B7B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B2D0FB-5214-47BC-8DB9-7128C837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C7CFD2-3E8E-4477-84D6-843F88B3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F1FF44-E3B8-4586-B86E-8047F94B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B7FAF8-DEC0-4D7E-A4D8-3FD238ED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7C077E-3E08-4C56-8C8B-A40F80EB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D52CA2-18EC-408F-8C1C-FADB2969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36D263-814A-4D0A-8572-329931FC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94B389-4170-479A-BABB-7CDC5A051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2DE4-D2CB-45C3-9923-113B5F0E9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BCD384-379F-4369-AA76-675DE42E3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2323E3-6903-4A28-B82B-4261219A1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31C6A0-5B5D-4691-B7D8-483CBC7C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9D70F-1E39-4410-804D-59A5AF44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D27F7-D5D7-49AF-BD35-2383F805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EDE97-EF2A-4D44-BC2E-201AE772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E1721A-31A4-423D-8779-6A57B43E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E7828-CD71-4EE3-9A52-B2EDE160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901F94-E2B1-4E61-83C6-79E0E175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4AA9C-9AFB-4AAC-899F-D6785C24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A2A7-253D-4D32-BDE4-0BEA1CA95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B8C73-1C4D-4288-B23C-97850A4B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F0439-D799-4468-946B-33E417F55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367772-FC01-47D7-8AC9-D6F78E604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2A4777-C1B8-41D9-92FA-F20607704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B3A377-CA1D-45AB-813B-14C70EE2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3F865B-C3BA-4DD0-B085-38177705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9C9047-BBE4-473A-98C3-5391BA68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515B07-8E25-43B2-BB1F-EF5378D8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8FF83F-9D75-4CA3-8962-F84B4E79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4D78B9-ED94-4B7E-91AE-6B6F6BE0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85A7-02A8-4BDE-911D-9271F1E3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29888E-4007-4B1E-ACF2-8CF8C21E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7ABC92-D626-40E5-B14B-74887471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77DD6A-4269-4049-BEF4-0A163B62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04308F-879D-4B6B-AA41-D40BD04D9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BE69C7-6D51-4ADC-AE11-59156C9EF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E07C-0013-434E-8157-0A05B009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B440-252A-4599-BF27-83B8758B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FBCA-4214-4C3E-812E-3AED870E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8995F-1C80-45A0-9370-C6C30A4F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187A-229D-42C2-BA82-40A44483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ACE3-D8DD-4ECD-A3BD-7EA80E9E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4EAB-9435-43AC-A54D-1EFEE14C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9589-8F74-4E9F-9DF8-4C521911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7EC4-77C8-429D-9D9C-19C68B6C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E2889-507C-47A4-8EBF-E0813D526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EAFDE-2870-4223-BD3A-878C22397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A6039-FA5B-42FE-BF66-1BDC6FE26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0032F-6F9A-4F1D-8F62-6B1F34A3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463D1-DE21-4789-A92C-818EFB84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E94F1-2AEF-4A51-B4C3-8705271B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34625-B820-4F06-BEB2-BA250E09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B746-2449-423F-B84C-9209D767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89804-727F-4B66-B707-D8061458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160C3-E49D-4193-8C5A-5EE07A56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206FE-8F97-4223-9755-D0B2E801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01738-5B45-44B1-85A9-80D10B1B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EE5C7-8F80-4E99-93A5-A5530E76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4607C-8BBD-4430-8999-1622195C0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E747C-4E2C-45F0-920E-7472072D5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944C7-905F-4E6F-858C-686F943BD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7B19E-F75E-4088-BAA4-8D3E5B6B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F9FB3-090D-4A4C-A10C-D19291B9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97A2-408E-439B-8B3E-6DE8A2F0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2EB1E-370B-4C6F-A607-FA2BCBBE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F9F9A-AD72-482D-9524-99B65033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3797E-8D79-4DAA-80E1-5646C918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E383B-992F-4487-9A40-B8CCA7C2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5F3C2-6A65-4E63-9666-2E53A195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F5893-74B7-4DDA-9B99-444FB306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DBDD1-C583-4AE0-90BD-BFB23557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03944-AEB6-4D68-82CC-277C00829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DB9F0-E52C-423B-B223-C9615056D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597FB-017B-4AE8-AEA5-484AD8B22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A060-2165-48C0-BD6C-80F060BA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4F902-1633-420F-97FB-B9BDE40B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04F45-E6F7-43FE-B5E0-1EC06E07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36AB3-0499-4C69-9E54-64339725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5134A-3A86-4949-BC72-BB02996A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00143-A7A8-4C6E-B333-A358D48F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35954-769C-42D8-8335-BBA010CB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B47EF-436F-441D-92FC-1D2B5BB2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F7836-E1D7-4869-AEF4-E8FAED4D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E4270-3CF7-412C-B82F-0CB244BF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54AD7-77CD-4FDD-B608-AFA08B377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250C-186F-4F0F-9EB7-06943BCD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23A3A-13AA-4F4A-A531-40EA9E407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FA1F6-D29F-41A1-9031-81312C9D9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0E516-4DC7-4F43-8481-9A4E45AE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E7C74-846B-410F-AFEC-A79D0D9D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39901-321A-4B97-8B35-B3A7541F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66A7F-F5D2-4765-B5E7-490EE3E8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7BC18-D3C1-4A93-AED7-F1EE0EC5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43E72-42FC-4293-84B9-83B15760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D8815-5050-4A5C-9B3E-7B3EBB95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1D9A2-18F5-45C3-8179-77087D7B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3C36-DDBD-4612-95DF-B16BC5B4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9D012-E8D5-4785-93E5-8A8C91B6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5A345-A4B4-4271-9114-FF949C717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457AF-5553-4F4B-A76C-2D16BA001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1291A-F5D3-4F89-B290-089BB73EC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3DCBD-2016-4948-A20E-6E8A6339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5A998-D7E1-4AED-859E-F70E16B0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4E61A-40A8-4606-8C40-DBF4DE4D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44085-8BEE-4C54-A121-4C4E26E2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5EFE5-1B76-404C-B20E-859FFAA7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6F934-0189-4E4E-B491-7BBB0BCD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89A6-0257-4B25-BF03-5F44712A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EB06B-5E73-44A6-BD71-04494E22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1B619-B60C-4CB0-984F-F4F6A79C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56EB0-CE4A-4B59-AEFA-F278D1BD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41689-1A58-463C-A325-F9FA39C12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91CB8-0E00-4377-96D7-D02D3979A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36182-2B1B-44EF-9A2A-C3355DD87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0906F-1887-42FE-9BC1-9A44298B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15224-1E1B-4AF8-9C49-47146C12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D7BFD-75B6-4841-A299-FBC09834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8114D-9DE5-49DF-9D4E-2DAE72A1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B136-CF81-4165-9C48-25103A83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8DBF9-688C-41BD-8B32-6021F625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FAC7B-85D6-440F-B4C1-D971FC35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2F3DB-F41B-41FB-9767-E4CA438A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AB952-B08E-4C26-8BBE-E0F5E444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A278A-F18A-4719-93B6-1BE04908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04555-10EF-44A8-B04E-EB4978990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4026A-F6F0-46E9-A303-3F19F5B1F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39AC67-2B5D-40DF-A6DA-E41DA72F0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1BF219-0039-4897-8CC9-C298AF15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4E15B4-4B5E-4711-B893-34AE9394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C980-38E2-473F-BD1D-A12C7B49318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2296-4C14-439F-B4D0-1B41F4C6D88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99BB-F919-4977-ABA5-B6DA1FFA70F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060C-8B4D-46F8-BF69-25C93E81502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809E-F0D1-46F6-8C08-502A1B7C7C6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00BE-C70E-4917-BDDA-B9BDE3D1899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A9CF-2C5D-4765-AC75-4901D15081E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F01F-6B69-498C-B7A0-3D7364D26C2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7CCE-DDBF-452C-B1D3-1566CF5ED2C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26C0-B986-4164-B376-49ACB4403BE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3416-0FD6-4155-BBC5-E6D3ADE70FEE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4E56-8C40-424A-8554-7E3EDCA276C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3779640" y="4941720"/>
            <a:ext cx="457812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НЕЧИТАЙЛО И.Н., ПРОНЕР М.А. УЧИТЕЛЯ НАЧАЛЬНЫХ КЛАССОВ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1402920" y="2205000"/>
            <a:ext cx="705492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2060"/>
                </a:solidFill>
                <a:latin typeface="Georgia"/>
              </a:rPr>
              <a:t>Распродажи, скидки. </a:t>
            </a:r>
            <a:br>
              <a:rPr sz="4200"/>
            </a:br>
            <a:r>
              <a:rPr b="1" lang="ru-RU" sz="4200" spc="-1" strike="noStrike">
                <a:solidFill>
                  <a:srgbClr val="002060"/>
                </a:solidFill>
                <a:latin typeface="Georgia"/>
              </a:rPr>
              <a:t>Решение задач.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Рисунок 4" descr="скидки.jpg"/>
          <p:cNvPicPr/>
          <p:nvPr/>
        </p:nvPicPr>
        <p:blipFill>
          <a:blip r:embed="rId1"/>
          <a:stretch/>
        </p:blipFill>
        <p:spPr>
          <a:xfrm>
            <a:off x="539640" y="476280"/>
            <a:ext cx="309564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395280" y="549360"/>
          <a:ext cx="8353440" cy="5472000"/>
        </p:xfrm>
        <a:graphic>
          <a:graphicData uri="http://schemas.openxmlformats.org/drawingml/2006/table">
            <a:tbl>
              <a:tblPr/>
              <a:tblGrid>
                <a:gridCol w="1670040"/>
                <a:gridCol w="1671480"/>
                <a:gridCol w="1670400"/>
                <a:gridCol w="1670040"/>
                <a:gridCol w="1671480"/>
              </a:tblGrid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бычная 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 39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3 0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 0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4 5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кидка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ез скид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кидка в руб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онечная 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2-19T12:14:11Z</dcterms:created>
  <dc:creator>Дом</dc:creator>
  <dc:description/>
  <dc:language>en-US</dc:language>
  <cp:lastModifiedBy>User</cp:lastModifiedBy>
  <dcterms:modified xsi:type="dcterms:W3CDTF">2023-02-21T12:12:38Z</dcterms:modified>
  <cp:revision>19</cp:revision>
  <dc:subject/>
  <dc:title>Распродажи, скидки.  Решение задач.</dc:title>
</cp:coreProperties>
</file>